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87D-D719-44BC-AEB9-C3859B07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A5E-9B69-44BB-A9E2-266E69B3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22917-E2E1-4CF8-B582-46EF91FF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3580A-79F9-4F2A-901F-EEC1D03A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B6979-F4DB-4AFA-AA47-CC9C04F4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917AA-307E-4BFF-AA9F-59181EC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44F9-F400-440A-ADCB-91971DC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08CDE-D278-4CC8-A4B7-CD715E48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E6E21-1996-4EE5-82C2-02C311E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AC295-1494-4EF8-8F02-3E7F0C38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F01D-45B7-40E8-B6F7-A9416143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05068-4FCC-43D1-B1EC-1023E784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DB1-EA2C-45D2-A778-0167EB4F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80F13-0BD4-4221-AD7A-50C23B9B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83554-3E7B-4798-9710-BE09384B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A55B8-CBE1-4A72-A823-593C1BC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94433-B6FF-4A89-BEEB-38BBD0B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15B86-1AA4-46A8-A92B-16A97CCF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87760-C72F-4867-8DC3-495C568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C1959-8E4D-4B01-9055-6309943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DF243-D566-42AD-8306-83DEC51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93394-E750-4AAC-8927-54700E03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81725-EC3C-469E-B17C-8010A887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0E0-605A-460A-974D-A60D25BB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350A9-F8FF-4076-916D-D26A041E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7C70-DACF-424B-B084-582BF5F0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B38DA-A29B-41A2-B8EB-F8248515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6929-7C02-44A0-A497-2CA95D1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ABF81-099C-4612-B8B6-831F1990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6E28B-168D-48E3-9203-FD9F96D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E336A-333F-42F7-A839-ECBC6383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F5B40-F1D0-496A-998D-BF5F8D18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1D356-5296-46C7-9348-5C705C7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A0740-C28A-43F8-B202-9D1F501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68013-4565-453A-BF45-45A72C53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BAF22-CEF1-47B2-9791-0C8EEBE0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F4DDA-E739-4574-8A03-A508234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06EB2-BA20-4C9B-878C-30770A43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2C6E7-D9FD-4A8A-B35F-622839C5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B38E7-CB75-49B6-926F-E48C57B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EC27A-A42E-4061-ACE0-C0608B42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BD87C-142D-4A67-AFF8-9BE0D91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4E918-E9FE-42C4-8FC0-A2FA19E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95221-4047-42DD-BDA0-66BC212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41FF9-BA3F-46FF-96A0-EEEB351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01D60-6305-4B3D-A6C3-FA7140E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8F6AC-F82A-48EC-8211-E325082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9749F-45D9-484C-BFCC-5CD2918E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64D4B-9DA2-4020-B96B-47E92FD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B9C19-3E44-4DC3-B170-F1C308AB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80D5D-ADB7-4484-9E56-2D039287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645E3-1E72-44D4-B267-EC195C4F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1E819-7EAF-4A4D-93D8-EC36BB4D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DE362-6BD5-4B26-8AC5-4D9276E8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1D17B-57F4-492D-AD95-605EAA5B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F91E5-3DEC-4FF2-A42E-F32D1236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C4514-EB22-4E5E-85CD-CD9AFBCD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EC236-E725-4D4A-9555-F8795319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9D046-610A-4B69-A69C-8541B06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7D0A5-2B0A-4C58-BFFD-8B742EF8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F9620-31A6-4652-BF1D-AAEA4C2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3531F-E194-48AB-9614-D3077A7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EB736-EE04-4742-B943-A9FB2B3C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A668D-7196-41F1-87A7-0E82F34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70380-CC4A-4F9E-A067-25574935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012A7-D515-4C00-8E2F-CE4240D5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C06E1-2652-447F-84F7-DE4123B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2D01-67BD-41AD-9B26-861829FC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336B8-C88A-49BF-B041-6072203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FCA05-683B-400E-98BF-082979D6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C53BE-2FCB-4BD6-8D32-59D5A698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70301-B217-42F2-A0E8-397B1ABE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3A99C-BD26-436E-B5A0-F42C519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7EC0C-9089-453F-89CA-290F2DBD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30CCB-E2C8-4E78-B379-AD256FF3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11912-2857-4168-AAE8-1D876609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2176E-80E9-4C10-858A-1E0732D9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96825-29AE-4937-8100-4042B67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A2D1F-9211-4DD1-9C6B-417B65C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5FD02-F08F-4EC3-B38C-E16E9F8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0FE-F652-460F-8760-F841D6BA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498E-150E-4068-9C30-440AFB7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7214-9129-4B93-AB26-557FB3C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46053-71E6-4228-BB03-7665186C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9FFE-8FC8-4823-88AD-CECEECF1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3BDD9-7427-4691-987D-F8CBB794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AC5F-6390-42BA-B367-1F7D45F4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3BE5-8F9E-416E-B321-8399137A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2A18-4D5B-4B35-95D1-3A4815B9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B9D0-639F-41CB-8C55-3E84BFFA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7491-53E8-42B8-B837-51FDFC8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C87-8BFA-47B5-B9A7-B76939A2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16E6F-F6F9-4BC4-87F7-7210428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CEC3-771A-4621-8C0B-FC3EFF1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2073-5A82-4B6C-BC4B-598C25F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FE09-154D-40ED-A4D9-5703FD4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1992-0471-4948-9836-0426CFB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365D-B144-408A-9E85-25DB38B3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ABE6-CF0C-4F2F-9E96-E38BFB52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B226-54AD-4B13-B4CE-B1182E12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51636-DE1C-42A2-9E22-32AD31F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C6B83-6F4A-4D01-A5C6-B873559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FDE-BAAB-4CA2-A17F-0E922246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5A23-9301-4FE7-8C2A-9760A37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0D85-E6CA-4F4C-8FA3-EB93901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8159-6192-44F3-AD24-22183920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A89D-2E4B-4088-80B1-327C1E9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C694-F0A7-4145-A266-A52BC3B8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597D-44EF-41CB-A167-473A4BAF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3830-2B10-4BC8-9F94-1905061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BEF9-386E-4B36-A8CD-507F67D5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0004-574C-4D84-B098-893DECF3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B62BF-B39C-483D-9712-C6C26064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C4A-0B5C-46F9-A802-2950FC6F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D834C-E289-43F2-ADDC-806C56A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3F6EDB-8BC0-4202-BCEF-F958B418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A214DB-CF6B-4F17-AB8A-A8D9B16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AC6835-1294-408A-84C6-3FE9A30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D48AC-3284-46CF-9BFD-E0267EA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3EAE0-4A53-4F89-9D4C-5977C3D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9D2A9E-E55C-473C-9339-B9137E38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E42A85-2F3B-46C7-B6BA-0E565CC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40BD9-16DC-47E7-B56F-F6C04FC9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772FAD-1DD6-41C5-AA39-8FB5D1EC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E42-9F68-4597-A9E8-210521AB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0782C4-3424-4DD4-9AC2-2C97214B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E0F1-4F50-48E4-9EF9-041FA77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904A-3D02-4BA9-AC1C-9F0B8501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51E1-BC67-4E44-986A-6A4F0324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917FE-8E92-4BA2-9736-4FE0B63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48DB-E692-44CA-8ABE-5AE59B68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B59C6-56FA-40F2-B550-A950163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6518-BFD1-40A9-B620-15CCACCA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1967E-DFCE-4F52-8E38-B55FDEB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B715-2D72-47A4-8E6D-85889BE9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B86-69F9-48D6-9266-F3F57BB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33DF2-4801-4FF8-BD52-65CF545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3BD19-7580-4551-8140-8FA6A2C0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7A49-CEB1-4955-B51A-EE1F9BDB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B705-2ECB-4B53-BCDF-84A0ED29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D850-E354-43EB-AB76-EF9D679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DBFC3-2FBB-40E1-874D-18B40C39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5F717-59CB-4C82-83AC-4C12389D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057F-91A0-49D6-AEA0-46EDDF3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266F-9CF7-4DDC-BF0F-728FB91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0DC9-EBE1-45CC-A7A9-2D452C0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0ED-92DB-4412-B242-F7F0822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182D-8506-4BF6-BF3A-AFA275B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2583-D4D4-4ACF-BC1B-5A238F6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4E55-6BA5-42D0-9B78-2883C0A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A16C-3260-4AF0-B00A-DF9A8A2C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DB3F-58CB-46B4-8F9A-B3676682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481A-3DE9-416C-9F73-17825A7E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842FD-6667-4476-B7D9-D7AACF0B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00650-934E-421B-A5DA-C6E8FF5C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A6067-0486-47DE-B004-655D904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53323-386F-41D5-9679-458ABAC3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9CE-C46A-41BF-98E7-AD3EEA6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F32BF-C83B-4FC1-8668-E301252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EAAC-B168-4137-9A22-B572D66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B99A-0A88-48F4-A44E-D74C1CF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8896D-A42A-4943-ABA6-B3F2FB1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A9CB3-C291-4CF8-A25D-7F63039C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414ED-59B7-42EC-9B5C-9DDBA02D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56CE-D67F-4BFB-96E7-4D38F497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8BBBB-D150-4442-8827-CEF54F3D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511B-8559-4736-BBAD-76F6E8BF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73766-1071-4571-8011-1C51DC1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DB9-CE5C-4D81-BDB7-70D61D63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5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CFDC-35D3-4B27-B851-A898E6D64D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0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0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0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1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67A-CF3C-4886-AB48-0B77748EF8F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7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7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8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9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0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0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1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2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2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8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8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50D3-FDE6-4EFA-A4BC-86210188DAA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514-650E-4D0B-AB40-7DCB5DAED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2B39-9D21-442A-8890-F62B9BAC6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9F81-3B7A-4CF2-B33C-3A8511BA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6B1-AF0C-4A72-986B-F66B4D4E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47CB-F34C-47BE-BE9B-BDC90E8BE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D35-91C3-49A1-A5FD-C539E176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3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339A-8B0B-4029-89C2-CC73AC3C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03C-59B9-4D43-AB2F-8A7DB7A33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DE87-3DD6-45D7-A367-20F0DCF2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1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EB09-30D4-4C6A-B237-EED24989E4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La Rutina del Muchach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: Alec Daly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: Hunter Mor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4495680" cy="379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La Mañ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muchach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acues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acues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as ocho y media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evan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seguida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o 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arde para la escuela. Necesi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prepa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4572000" y="2198520"/>
            <a:ext cx="36576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imes New Roman"/>
              </a:rPr>
              <a:t>El Cuarto de Ba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imes New Roman"/>
                <a:ea typeface="Tahoma"/>
              </a:rPr>
              <a:t>ñ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imes New Roman"/>
              </a:rPr>
              <a:t>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ando el muchacho llega al b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uch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l pelo c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 cham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, 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con un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barra de jabó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 Cuan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s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la ducha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p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una toalla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afe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c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la nava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la crema de afeit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 E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mi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en el espejo cuando 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afe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3"/>
          <a:stretch/>
        </p:blipFill>
        <p:spPr>
          <a:xfrm>
            <a:off x="5638680" y="4191120"/>
            <a:ext cx="167508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Despu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 de se Afeit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muchach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cepi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s dientes c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 cepillo de dien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 tubo de pasta dentríf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Desp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de se cepilla, el muchach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s manos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s manos con ja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y agua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1720800" cy="23623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2"/>
          <a:stretch/>
        </p:blipFill>
        <p:spPr>
          <a:xfrm>
            <a:off x="4648320" y="4648320"/>
            <a:ext cx="32288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2400480"/>
            <a:ext cx="40384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uchach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p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ropa. El muchacho se pone una camiseta, los pantalones, una corbata, y los zapa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9368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El Desayu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114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el desayuno, el muchacho se come los cereales, y la leche. Usa una cuchara para comer el desayuno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cc00"/>
                </a:solidFill>
                <a:latin typeface="Arial Black"/>
              </a:rPr>
              <a:t>Adios!</a:t>
            </a:r>
            <a:endParaRPr b="0" lang="en-US" sz="1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35:30Z</dcterms:created>
  <dc:creator>moranhun</dc:creator>
  <dc:description/>
  <dc:language>en-US</dc:language>
  <cp:lastModifiedBy>moranhun</cp:lastModifiedBy>
  <dcterms:modified xsi:type="dcterms:W3CDTF">2012-04-05T15:28:07Z</dcterms:modified>
  <cp:revision>7</cp:revision>
  <dc:subject/>
  <dc:title>La Rutina del Muchacho</dc:title>
</cp:coreProperties>
</file>